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47D-E8E9-4506-9467-9F26E4A7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ADF-8198-4A9F-8F84-14B190FD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930-AD3E-4A11-AC41-7A707131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546-73A1-4733-ABBD-863C3A9B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4E1-EC91-4A06-9B35-64EC4E55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E91-777C-444F-8684-37320F19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F61-F8AC-4FD2-8522-0B0D8DD6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755-C6EF-4495-BE6D-C48090F6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07D-54DE-40AE-9F8B-99A4963B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ADC-095F-46E8-864B-19585B3F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486-66CF-4689-9D0D-CAF56D22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931-717C-4A6E-8E17-19891843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868E-64AA-4128-B829-FC215D648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920" y="5076720"/>
            <a:ext cx="50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7740720"/>
            <a:ext cx="64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25360" y="0"/>
            <a:ext cx="5732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5360" y="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Prome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97360" y="108000"/>
            <a:ext cx="3860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2640" y="108000"/>
            <a:ext cx="4005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8480" y="1792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efan Edelk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41280" y="684360"/>
            <a:ext cx="561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5360" y="611280"/>
            <a:ext cx="55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anners are asked to find bugs (deadlocks) in communication protocols translated into PDDL from the Promela specification language. Two protocols are dealt with: dining philosophers, and an optical telegraph problem. Of each protocol, each domain version encodes the exact same instances but using very different PDDL construc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1600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16000"/>
            <a:ext cx="685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Dining Philosopher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From top to bottom: standard STRIPS/ADL, + derived predicates, + numeric flu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47636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00280" y="147636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500280" y="147636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259240" y="147636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50028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25924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0" y="378000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3500280" y="378000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5259240" y="3780000"/>
            <a:ext cx="1598760" cy="1118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003640"/>
            <a:ext cx="685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Optical Telegraph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From top to bottom: standard STRIPS/ADL, + derived predicates, + numeric flu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00364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0" y="7812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3500280" y="7812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1700280" y="536400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59240" y="5364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350028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525924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0" y="5364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0"/>
          <a:stretch/>
        </p:blipFill>
        <p:spPr>
          <a:xfrm>
            <a:off x="3500280" y="5364000"/>
            <a:ext cx="15987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9:30:20Z</dcterms:created>
  <dc:creator>Ilia Polian</dc:creator>
  <dc:description/>
  <dc:language>en-US</dc:language>
  <cp:lastModifiedBy>hoffmann</cp:lastModifiedBy>
  <dcterms:modified xsi:type="dcterms:W3CDTF">2004-05-24T07:45:27Z</dcterms:modified>
  <cp:revision>59</cp:revision>
  <dc:subject/>
  <dc:title>Kein Folientitel</dc:title>
</cp:coreProperties>
</file>