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E33-7320-4048-9D0F-57175AB6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424-9780-4182-9C9F-CA1F90C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EED-F23E-4C62-B49D-B47FA93A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4D9-EB7F-41BA-843E-D1F02C42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0C8-D3F5-4FC3-BE04-F400438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912-BA3F-4B73-B424-10CC32B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290-7DDB-4292-9A40-F161392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8C7-C01B-43AA-A788-92D9834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CBB-B6F4-49F5-99D8-4560F29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107-6B78-4112-B493-9EBE284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262-994A-40DF-AE5C-85377DE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853-C164-473A-B01D-025EC7A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AB2-E2FA-49F0-A537-F9886A5F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41720" y="1080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oman Engl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395280"/>
            <a:ext cx="554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UMTS domain is a real-world application developed by Roman Englert. Planners are asked to do the UMTS call set-ups required to start an interactive application in a mobile terminal. The main objective in the real-world domain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is to optimise the time needed to complete the set-up. When ignoring that objective, i.e. for suboptimal planners, the domain is relatively unproblematic, but for optimal planners it is a r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listic challenge. In IPC-4, there are also ``flawed‘‘ versions of the domain where a superfluous extra action intends to disturb the relaxed plan-based heuristic functions used in most modern suboptimal plan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rmal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076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076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lawed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70028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50028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350028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6T06:47:11Z</dcterms:modified>
  <cp:revision>61</cp:revision>
  <dc:subject/>
  <dc:title>Kein Folientitel</dc:title>
</cp:coreProperties>
</file>