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4C8D-FD5C-472C-B4F6-2FCB437DD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9409-DAD3-4012-8F4F-35FBFFBC1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FB0B-0DEE-434E-BF0E-79A1DD7E6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B51F-3D72-4C30-AD08-8976E34B6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8CA6-7C91-4EDA-8D34-CB47AF4D3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7D4C-BD95-455E-B65D-A10AC4830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580C-C340-490E-A31E-DA744566C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C75D-15A2-47B5-B6E4-902192DE1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BDFB-58A6-43F1-A09C-A0DADFFA0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9021-AC70-4BFF-83E9-75F30A24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3C13-E696-450B-8ABC-45928B54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AF6B-9011-446F-90F2-C30C7C98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fcf3"/>
            </a:gs>
            <a:gs pos="100000">
              <a:srgbClr val="cdf5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88A6C-495E-4B7F-BDD8-9DCF5942D0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image" Target="../media/image15.wmf"/><Relationship Id="rId16" Type="http://schemas.openxmlformats.org/officeDocument/2006/relationships/image" Target="../media/image16.wmf"/><Relationship Id="rId17" Type="http://schemas.openxmlformats.org/officeDocument/2006/relationships/image" Target="../media/image17.wmf"/><Relationship Id="rId18" Type="http://schemas.openxmlformats.org/officeDocument/2006/relationships/image" Target="../media/image18.wmf"/><Relationship Id="rId19" Type="http://schemas.openxmlformats.org/officeDocument/2006/relationships/image" Target="../media/image19.wmf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fcf3"/>
            </a:gs>
            <a:gs pos="100000">
              <a:srgbClr val="cdf5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5920" y="5076720"/>
            <a:ext cx="504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9000" y="7740720"/>
            <a:ext cx="6480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125360" y="0"/>
            <a:ext cx="5732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25360" y="0"/>
            <a:ext cx="21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UM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997360" y="108000"/>
            <a:ext cx="3860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52640" y="108000"/>
            <a:ext cx="4005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41720" y="108000"/>
            <a:ext cx="335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Stefan Edelkamp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Roman Engle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41280" y="684360"/>
            <a:ext cx="5616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25360" y="395280"/>
            <a:ext cx="55436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Times New Roman"/>
              </a:rPr>
              <a:t>The UMTS domain is a real-world application developed by Roman Englert. Planners are asked to do the UMTS call set-ups required to start an interactive application in a mobile terminal. The main objective in the real-world domain</a:t>
            </a: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800" spc="-1" strike="noStrike">
                <a:solidFill>
                  <a:srgbClr val="000000"/>
                </a:solidFill>
                <a:latin typeface="Times New Roman"/>
              </a:rPr>
              <a:t> is to optimise the time needed to complete the set-up. When ignoring that objective, i.e. for suboptimal planners, the domain is relatively unproblematic, but for optimal planners it is a re</a:t>
            </a: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sz="800" spc="-1" strike="noStrike">
                <a:solidFill>
                  <a:srgbClr val="000000"/>
                </a:solidFill>
                <a:latin typeface="Times New Roman"/>
              </a:rPr>
              <a:t>listic challenge. In IPC-4, there are also ``flawed‘‘ versions of the domain where a superfluous extra action intends to disturb the relaxed plan-based heuristic functions used in most modern suboptimal planner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16000"/>
            <a:ext cx="685800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116000"/>
            <a:ext cx="6858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Normal                                                                      </a:t>
            </a:r>
            <a:r>
              <a:rPr b="0" sz="800" spc="-1" strike="noStrike">
                <a:solidFill>
                  <a:srgbClr val="000000"/>
                </a:solidFill>
                <a:latin typeface="Times New Roman"/>
              </a:rPr>
              <a:t>From top to bottom: standard, + time windows, + compiled time window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5076720"/>
            <a:ext cx="685800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507672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Flawed                                                                      </a:t>
            </a:r>
            <a:r>
              <a:rPr b="0" sz="800" spc="-1" strike="noStrike">
                <a:solidFill>
                  <a:srgbClr val="000000"/>
                </a:solidFill>
                <a:latin typeface="Times New Roman"/>
              </a:rPr>
              <a:t>From top to bottom: standard, + time windows, + compiled time window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140328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0" y="262728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0" y="385128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0" y="536400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0" y="658800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0" y="781200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1700280" y="1403280"/>
            <a:ext cx="1598400" cy="11192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9"/>
          <a:stretch/>
        </p:blipFill>
        <p:spPr>
          <a:xfrm>
            <a:off x="3500280" y="140328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0"/>
          <a:stretch/>
        </p:blipFill>
        <p:spPr>
          <a:xfrm>
            <a:off x="5259240" y="140328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1"/>
          <a:stretch/>
        </p:blipFill>
        <p:spPr>
          <a:xfrm>
            <a:off x="3500280" y="262728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2"/>
          <a:stretch/>
        </p:blipFill>
        <p:spPr>
          <a:xfrm>
            <a:off x="5259240" y="262728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3"/>
          <a:stretch/>
        </p:blipFill>
        <p:spPr>
          <a:xfrm>
            <a:off x="3500280" y="385128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4"/>
          <a:stretch/>
        </p:blipFill>
        <p:spPr>
          <a:xfrm>
            <a:off x="1700280" y="5364000"/>
            <a:ext cx="1598400" cy="1119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5"/>
          <a:stretch/>
        </p:blipFill>
        <p:spPr>
          <a:xfrm>
            <a:off x="3500280" y="536400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6"/>
          <a:stretch/>
        </p:blipFill>
        <p:spPr>
          <a:xfrm>
            <a:off x="5259240" y="536400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7"/>
          <a:stretch/>
        </p:blipFill>
        <p:spPr>
          <a:xfrm>
            <a:off x="3500280" y="658800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8"/>
          <a:stretch/>
        </p:blipFill>
        <p:spPr>
          <a:xfrm>
            <a:off x="5259240" y="658800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9"/>
          <a:stretch/>
        </p:blipFill>
        <p:spPr>
          <a:xfrm>
            <a:off x="3500280" y="7812000"/>
            <a:ext cx="159876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4T19:30:20Z</dcterms:created>
  <dc:creator>Ilia Polian</dc:creator>
  <dc:description/>
  <dc:language>en-US</dc:language>
  <cp:lastModifiedBy>hoffmann</cp:lastModifiedBy>
  <dcterms:modified xsi:type="dcterms:W3CDTF">2004-05-26T06:47:11Z</dcterms:modified>
  <cp:revision>61</cp:revision>
  <dc:subject/>
  <dc:title>Kein Folientitel</dc:title>
</cp:coreProperties>
</file>