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A82-5BBC-496F-8ABD-94670A9B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7BC-704D-4130-81E1-E7BBAA5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915-6B67-4056-A190-945F65B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8E3-E86D-47F0-8400-99C29791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543-6F3A-4A1E-86ED-9124A7A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752-D0C2-4CE9-A926-C14FC13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B1D-AC64-4A11-ADAB-7524ADEA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B71-D24A-4B14-A4DB-B10406B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2E0-AE36-45B9-A2EB-A044C58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67E-D2F6-4D11-948E-7943DD7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C8E-1DFA-465C-B09A-199BF58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B7D-0BA7-457B-974A-3230C05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230-C7DB-4D29-9E70-27BF7B0A4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ipes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3440" y="17928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y Frederico Liporace and J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g Hoff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control the flow of petroleum derivatives through a pipeline network. Product „batches“ can be pushed into, or pop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ut of,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a pipe segment, updating the segment‘s contents accordingly. Additional constraints concern (in some domain versions) the compatibility of different product types,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tankage capacity in areas, and deadlines on the arrival of the goal batc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basic STRI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00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tankage constrai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7000" y="6084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7000" y="759636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9000" y="2556000"/>
            <a:ext cx="189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7000" y="4572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-deadlines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 and deadli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7000" y="6084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00080" y="7596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8640" y="457200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8640" y="270036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4572000"/>
            <a:ext cx="0" cy="1512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64000"/>
            <a:ext cx="1628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28640" y="270000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18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2340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7336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57336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708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1773360" y="305928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350028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525924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234936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472428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1773360" y="637236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350028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525924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1773360" y="78850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>
            <a:off x="350028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>
            <a:off x="5259240" y="788508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17T14:11:47Z</dcterms:modified>
  <cp:revision>59</cp:revision>
  <dc:subject/>
  <dc:title>Kein Folientitel</dc:title>
</cp:coreProperties>
</file>