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C5A-03A6-4866-90A7-320B16CF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F91-A8F1-4198-A144-A455187F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6A4-6B8D-4E3D-8D80-E942FE7F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A9F-D6D5-4B1D-9638-C48650FA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D4B-812B-4C82-B367-5EDA2A40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BE8-C267-459B-947F-8A8FFDBC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D3B-F6AF-4CA6-AD1B-919D336F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6FA-7A31-4458-8310-593A8785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D11-D94B-4D49-8B56-C2ADBE60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64B-43A7-48AE-B28C-03D6F4F9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D635-30F2-43E4-B8BD-5325FFCF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D20-54B2-472A-9606-D6F74285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8494-60B9-445D-B111-529ABE320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cf3"/>
            </a:gs>
            <a:gs pos="100000">
              <a:srgbClr val="cdf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920" y="5076720"/>
            <a:ext cx="50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7740720"/>
            <a:ext cx="64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25360" y="0"/>
            <a:ext cx="5732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5360" y="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Pipes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97360" y="108000"/>
            <a:ext cx="3860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2640" y="108000"/>
            <a:ext cx="4005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93440" y="179280"/>
            <a:ext cx="32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By Frederico Liporace and J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rg Hoff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41280" y="684360"/>
            <a:ext cx="561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5360" y="611280"/>
            <a:ext cx="55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anners control the flow of petroleum derivatives through a pipeline network. Product „batches“ can be pushed into, or pop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ed 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out of,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 a pipe segment, updating the segment‘s contents accordingly. Additional constraints concern (in some domain versions) the compatibility of different product types,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the tankage capacity in areas, and deadlines on the arrival of the goal batch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1600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16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Notankage-nontemporal: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basic STRI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70036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Tankage-nontemporal: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us tankage constrai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27000" y="608472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27000" y="7596360"/>
            <a:ext cx="6858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69000" y="2556000"/>
            <a:ext cx="1890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27000" y="4572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Notankage-temporal-deadlines: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us durations and deadli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7000" y="60847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Notankage-temporal: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us dur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100080" y="759636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ankage-temporal: 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plus dur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8640" y="4572000"/>
            <a:ext cx="5229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8640" y="2700360"/>
            <a:ext cx="5229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8640" y="4572000"/>
            <a:ext cx="0" cy="15127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564000"/>
            <a:ext cx="1628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28640" y="2700000"/>
            <a:ext cx="0" cy="8636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187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234000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773360" y="140328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573360" y="1403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259240" y="1403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370836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0" y="4859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1773360" y="3059280"/>
            <a:ext cx="1598400" cy="1118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3500280" y="305928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5259240" y="305928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2349360" y="4859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4724280" y="48592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0" y="637236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>
            <a:off x="1773360" y="6372360"/>
            <a:ext cx="1598400" cy="1118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6"/>
          <a:stretch/>
        </p:blipFill>
        <p:spPr>
          <a:xfrm>
            <a:off x="3500280" y="637236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7"/>
          <a:stretch/>
        </p:blipFill>
        <p:spPr>
          <a:xfrm>
            <a:off x="5259240" y="6372360"/>
            <a:ext cx="1598760" cy="1118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8"/>
          <a:stretch/>
        </p:blipFill>
        <p:spPr>
          <a:xfrm>
            <a:off x="0" y="78850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9"/>
          <a:stretch/>
        </p:blipFill>
        <p:spPr>
          <a:xfrm>
            <a:off x="1773360" y="7885080"/>
            <a:ext cx="1598400" cy="1119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0"/>
          <a:stretch/>
        </p:blipFill>
        <p:spPr>
          <a:xfrm>
            <a:off x="3500280" y="7885080"/>
            <a:ext cx="1598760" cy="1119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1"/>
          <a:stretch/>
        </p:blipFill>
        <p:spPr>
          <a:xfrm>
            <a:off x="5259240" y="7885080"/>
            <a:ext cx="15987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9:30:20Z</dcterms:created>
  <dc:creator>Ilia Polian</dc:creator>
  <dc:description/>
  <dc:language>en-US</dc:language>
  <cp:lastModifiedBy>hoffmann</cp:lastModifiedBy>
  <dcterms:modified xsi:type="dcterms:W3CDTF">2004-05-17T14:11:47Z</dcterms:modified>
  <cp:revision>59</cp:revision>
  <dc:subject/>
  <dc:title>Kein Folientitel</dc:title>
</cp:coreProperties>
</file>