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C1D-268C-4599-B096-BA873081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DA3-DF14-4A58-B3D3-D1635921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79B-7864-4F93-88BB-7DD652BB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12E-4A65-433E-B30E-B3625E9D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46D-6C05-4382-86EF-8536D48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2BE-EBDC-42C0-AD97-A324474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4DB-4F28-48AE-BD64-15712C63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AC7-6227-46A4-9434-CC2BF1A0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9A4-D6EC-42BF-9F90-AD9FB9A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914-695D-4623-B111-ABCD8DE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19B-68BA-4527-8A75-7EE1772D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404-004D-411A-8377-5120649C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3664-20AA-41CF-9AAD-526D9CB5D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Prom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8480" y="1792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efan Edelk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61128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anners are asked to find bugs (deadlocks) in communication protocols translated into PDDL from the Promela specification language. Two protocols are dealt with: dining philosophers, and an optical telegraph problem. Of each protocol, each domain version encodes the exact same instances but using very different PDDL construc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Dining Philosopher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 STRIPS/ADL, + derived predicates, + numeric flu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00280" y="147636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50028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59240" y="1476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0028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259240" y="262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0" y="378000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3500280" y="378000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259240" y="3780000"/>
            <a:ext cx="1598760" cy="1118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003640"/>
            <a:ext cx="685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Optical Telegraph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From top to bottom: standard STRIPS/ADL, + derived predicates, + numeric flu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00364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3500280" y="7812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1700280" y="536400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525924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50028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259240" y="6588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0" y="5364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3500280" y="536400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24T07:45:27Z</dcterms:modified>
  <cp:revision>59</cp:revision>
  <dc:subject/>
  <dc:title>Kein Folientitel</dc:title>
</cp:coreProperties>
</file>